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F404-F37D-46F8-B2E0-9BECF543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4E79-5374-4C68-B54D-E74E161F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D6F3-4D5E-41A8-A0FC-DE47128C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0718-D3CE-48F7-903A-B27A47D3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1CED-8EA9-47FD-A914-94F07818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9439-C08A-48A4-9453-67CDB6C5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43B7-37BB-4501-8207-B4AA9437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3554-4AF7-4F3B-9909-11426D96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2468-31DE-409A-BE98-C5AE0548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2C8D-67C8-4200-8F54-13CB8ED7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73D0-69DF-45EB-9287-81058093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C3F4-2C5E-47B9-8826-2DA40B1B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1604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86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B427-73E4-4D7E-B2C5-4B9A92D49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240680" y="6629400"/>
            <a:ext cx="183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UNCLASSIFIED//FO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v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ire Challenge 2009 (EC09) Initiative Br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/Presente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85800"/>
                <a:tab algn="l" pos="143820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gram Overview                                             Airborne Overhead Cooperative 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295280"/>
            <a:ext cx="0" cy="51055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85800"/>
                <a:tab algn="l" pos="143820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gram Overview                                                             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44400" y="1341360"/>
            <a:ext cx="360" cy="1085760"/>
            <a:chOff x="644400" y="1341360"/>
            <a:chExt cx="360" cy="1085760"/>
          </a:xfrm>
        </p:grpSpPr>
        <p:sp>
          <p:nvSpPr>
            <p:cNvPr id="51" name=""/>
            <p:cNvSpPr/>
            <p:nvPr/>
          </p:nvSpPr>
          <p:spPr>
            <a:xfrm>
              <a:off x="644400" y="13413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4400" y="14446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4400" y="15476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4400" y="16509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4400" y="17524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4400" y="18558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4400" y="19591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4400" y="20620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0" y="3733920"/>
            <a:ext cx="4411800" cy="48708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61840"/>
                <a:tab algn="l" pos="1206360"/>
                <a:tab algn="l" pos="1535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bjective/Capability Thread Support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84120"/>
            <a:ext cx="6821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itiative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89556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1447920"/>
            <a:ext cx="434340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ganiz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C09 Spons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neral Description: ex: (Initiative) provides the capability to 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24480" y="4102200"/>
            <a:ext cx="441936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li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ition Pat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C09 Funding Stat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4029120"/>
            <a:ext cx="437832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ective(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pability Thread(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Capabiliti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12640" y="1949400"/>
            <a:ext cx="136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4400" y="3733920"/>
            <a:ext cx="47196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61840"/>
                <a:tab algn="l" pos="1206360"/>
                <a:tab algn="l" pos="1535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turity/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6320" y="217080"/>
            <a:ext cx="652320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09 Insertion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320" y="1449360"/>
            <a:ext cx="866772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ility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pecific EC09 Objective(s) does initiative sup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150480"/>
            <a:ext cx="6881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itiative Support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90320"/>
            <a:ext cx="8382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ts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quired/desired integration with othe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tprint/Logi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ocation, ground support req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(s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pecify which network to be connected 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quired RF sup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77480"/>
            <a:ext cx="66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09 Expected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390680"/>
            <a:ext cx="8382240" cy="10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390680"/>
            <a:ext cx="838224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52280" y="350532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56:32Z</dcterms:created>
  <dc:creator>william.poppert</dc:creator>
  <dc:description/>
  <dc:language>en-US</dc:language>
  <cp:lastModifiedBy>john.kittle</cp:lastModifiedBy>
  <dcterms:modified xsi:type="dcterms:W3CDTF">2008-04-25T17:40:07Z</dcterms:modified>
  <cp:revision>12</cp:revision>
  <dc:subject/>
  <dc:title>Slide 1</dc:title>
</cp:coreProperties>
</file>